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0F3-C777-498C-BE78-673A3FC8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A8A-DB94-4986-AB85-D6E8DE87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151-A950-4F9F-9EA4-9F1D37A2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9A9-C817-41CC-8E82-D17E5308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306-844E-40DB-8F4B-E87C845B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223-9FDD-4A13-8416-D7110A7C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1D3-DDF3-455B-A117-5054F6B2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E69-C570-4F23-8F3B-986C467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098-E9AE-4AC4-92C1-DA2402EB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BC1-2AD6-4194-8083-6E24EF34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F99-A886-42C1-BA19-2EE216C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A1A-BF71-44A5-9379-2A44AAF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EF56-24A3-4A69-B004-BA03DB016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43080" y="5429160"/>
            <a:ext cx="457200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БДОУ «Центр развития ребенка детский сад №4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язовец  2022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366920" y="190008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витие интеллектуальных способностей дошкольника с помощью математических иг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3492360" y="4005360"/>
            <a:ext cx="2365560" cy="2246040"/>
          </a:xfrm>
          <a:prstGeom prst="rect">
            <a:avLst/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3348000" y="1628640"/>
            <a:ext cx="2664000" cy="2276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356000" y="4508640"/>
            <a:ext cx="595440" cy="615960"/>
          </a:xfrm>
          <a:prstGeom prst="rec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https://fanibani.ru/wp-content/uploads/2021/08/Malenkie-oblachka-i-tuchki-s-glazkami017.jpg"/>
          <p:cNvPicPr/>
          <p:nvPr/>
        </p:nvPicPr>
        <p:blipFill>
          <a:blip r:embed="rId2"/>
          <a:stretch/>
        </p:blipFill>
        <p:spPr>
          <a:xfrm>
            <a:off x="900000" y="90792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https://pro-dachnikov.com/uploads/posts/2021-09/1632717754_5-p-skachat-kartinku-zabora-6.png"/>
          <p:cNvPicPr/>
          <p:nvPr/>
        </p:nvPicPr>
        <p:blipFill>
          <a:blip r:embed="rId3"/>
          <a:stretch/>
        </p:blipFill>
        <p:spPr>
          <a:xfrm>
            <a:off x="5796000" y="4869000"/>
            <a:ext cx="2413080" cy="1431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https://pro-dachnikov.com/uploads/posts/2021-10/1633307976_6-pro-dachnikov-com-p-lestnitsa-multyashnaya-foto-6.png"/>
          <p:cNvPicPr/>
          <p:nvPr/>
        </p:nvPicPr>
        <p:blipFill>
          <a:blip r:embed="rId4"/>
          <a:stretch/>
        </p:blipFill>
        <p:spPr>
          <a:xfrm>
            <a:off x="1476360" y="4292640"/>
            <a:ext cx="200196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785520"/>
            <a:ext cx="6912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saroblnews.ru/files/pages/30290/1389770935general_pages_i30290_saratovskie_pedagogi_psixologi_stali_laureatami_vserossiiskogo_konkursa.png"/>
          <p:cNvPicPr/>
          <p:nvPr/>
        </p:nvPicPr>
        <p:blipFill>
          <a:blip r:embed="rId2"/>
          <a:stretch/>
        </p:blipFill>
        <p:spPr>
          <a:xfrm>
            <a:off x="1476360" y="2209680"/>
            <a:ext cx="60483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Users\Россия\Desktop\1.jpg"/>
          <p:cNvPicPr/>
          <p:nvPr/>
        </p:nvPicPr>
        <p:blipFill>
          <a:blip r:embed="rId2"/>
          <a:stretch/>
        </p:blipFill>
        <p:spPr>
          <a:xfrm>
            <a:off x="2268360" y="2349360"/>
            <a:ext cx="446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Россия\Desktop\111.jpg"/>
          <p:cNvPicPr/>
          <p:nvPr/>
        </p:nvPicPr>
        <p:blipFill>
          <a:blip r:embed="rId2"/>
          <a:stretch/>
        </p:blipFill>
        <p:spPr>
          <a:xfrm>
            <a:off x="2411280" y="2565360"/>
            <a:ext cx="41259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Россия\Desktop\333.jpg"/>
          <p:cNvPicPr/>
          <p:nvPr/>
        </p:nvPicPr>
        <p:blipFill>
          <a:blip r:embed="rId2"/>
          <a:stretch/>
        </p:blipFill>
        <p:spPr>
          <a:xfrm>
            <a:off x="2340000" y="2637000"/>
            <a:ext cx="431496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Россия\Desktop\555.jpg"/>
          <p:cNvPicPr/>
          <p:nvPr/>
        </p:nvPicPr>
        <p:blipFill>
          <a:blip r:embed="rId2"/>
          <a:stretch/>
        </p:blipFill>
        <p:spPr>
          <a:xfrm>
            <a:off x="2411280" y="2565360"/>
            <a:ext cx="41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https://fs00.infourok.ru/images/doc/104/123584/img13.jpg"/>
          <p:cNvPicPr/>
          <p:nvPr/>
        </p:nvPicPr>
        <p:blipFill>
          <a:blip r:embed="rId2"/>
          <a:stretch/>
        </p:blipFill>
        <p:spPr>
          <a:xfrm>
            <a:off x="1042920" y="1052640"/>
            <a:ext cx="68724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s://i.pinimg.com/736x/8d/1e/3d/8d1e3d3592ceb01d3f99e1c0a9454644.jpg"/>
          <p:cNvPicPr/>
          <p:nvPr/>
        </p:nvPicPr>
        <p:blipFill>
          <a:blip r:embed="rId2"/>
          <a:stretch/>
        </p:blipFill>
        <p:spPr>
          <a:xfrm>
            <a:off x="1835280" y="981000"/>
            <a:ext cx="5257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s://ds04.infourok.ru/uploads/ex/0392/000051b1-fe1a4f89/hello_html_m71eb91ad.jpg"/>
          <p:cNvPicPr/>
          <p:nvPr/>
        </p:nvPicPr>
        <p:blipFill>
          <a:blip r:embed="rId2"/>
          <a:stretch/>
        </p:blipFill>
        <p:spPr>
          <a:xfrm>
            <a:off x="755640" y="836640"/>
            <a:ext cx="748836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avatars.mds.yandex.net/get-pdb/34158/54828917-478a-4f9b-bf25-bd86e750e476/s1200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s://i.otzovik.com/2015/05/17/2097023/img/66872126.jpg"/>
          <p:cNvPicPr/>
          <p:nvPr/>
        </p:nvPicPr>
        <p:blipFill>
          <a:blip r:embed="rId2"/>
          <a:stretch/>
        </p:blipFill>
        <p:spPr>
          <a:xfrm>
            <a:off x="1619280" y="1413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ссия</cp:lastModifiedBy>
  <dcterms:modified xsi:type="dcterms:W3CDTF">2022-04-20T08:25:06Z</dcterms:modified>
  <cp:revision>285</cp:revision>
  <dc:subject/>
  <dc:title>Слайд 1</dc:title>
</cp:coreProperties>
</file>